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11.wmf" ContentType="image/x-wmf"/>
  <Override PartName="/ppt/media/image6.wmf" ContentType="image/x-wmf"/>
  <Override PartName="/ppt/media/image9.wmf" ContentType="image/x-wmf"/>
  <Override PartName="/ppt/media/image23.wmf" ContentType="image/x-wmf"/>
  <Override PartName="/ppt/media/image22.wmf" ContentType="image/x-wmf"/>
  <Override PartName="/ppt/media/image18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2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EFA-1020-4B4E-B06E-49DB2C9D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DDDE-3096-418A-BB4F-7B81CCED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51A-08D3-4FF2-8F01-A3D1C751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8C1F-76AB-45AC-A5ED-E11C6914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E574-E301-4D86-80B4-775109AAD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D2923-FFD1-4D59-B8B4-C0D6F06F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26FB-FDC6-432F-B05A-9D55B4AF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069C-79D6-4039-9BE9-F8846ED6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30C8-D26C-469E-9371-F90A4A86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9367-4969-45F4-8F5C-AE76AB2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CEF6-6222-456C-B49E-D3F9B30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4FE-347C-4452-837D-9F7D738F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18B-EF84-401B-ABA4-57A6147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307-5481-48D2-B2DB-C5A61855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FF14-A2B0-40A9-BC6D-AC2DC5B5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21E1-4DB4-471F-8482-4117AE6C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8E92-C6A3-49E1-A9FB-A88023E23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6FD5-284C-43D6-8457-AEC17454A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9810C-CDB8-415C-AF17-2329CE7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8BAE6-44A9-4236-97CF-DB2B527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198EE-F2A4-4773-AFD1-05C29B3B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148D-50B7-49CD-8F10-2E73115B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87B-2EF8-4193-A798-65BABB56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F2548-C489-4FC7-A006-248EC0E8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4C9A5-C2C8-462C-BF29-F3882E23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E348F-607A-4027-9A25-7E2A949D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9A8FC-600C-4BEB-948D-3C31BE8F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BDE09-785E-4EEA-AD82-DEDE8FF7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73573-6FB1-445B-81A0-EFA3E22A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ED509-B789-42C1-BDBB-D9672A7A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B747-F3BB-43DF-8319-7DA9FA9B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3053-DDC3-489F-9585-F2CB75F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29C-8B70-49EF-92C9-3C16D81A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830-D23A-4FFC-9116-3986005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2C2-B525-4A2A-AB66-92E790BA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AFC-D8CA-45AF-AC03-69F4F462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2599-AF0D-4668-B9FD-1FB545F5B7B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CF53-236B-45D6-BF44-2E217F1D5AF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9CA3-8259-411E-A610-3BF6EEAE0B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08000" y="1844640"/>
            <a:ext cx="676944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600" spc="-1" strike="noStrike">
                <a:solidFill>
                  <a:srgbClr val="000000"/>
                </a:solidFill>
                <a:latin typeface="Century Gothic"/>
              </a:rPr>
              <a:t>Posibilidades de Desarrollo del Sector Algodon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268360" y="3645000"/>
            <a:ext cx="5796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Century Gothic"/>
              </a:rPr>
              <a:t>Fernando Cillón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inform</a:t>
            </a:r>
            <a:r>
              <a:rPr b="1" i="1" lang="es-PE" sz="1800" spc="-1" strike="noStrike">
                <a:solidFill>
                  <a:srgbClr val="ff3300"/>
                </a:solidFill>
                <a:latin typeface="Times New Roman"/>
              </a:rPr>
              <a:t>@</a:t>
            </a:r>
            <a:r>
              <a:rPr b="1" i="1" lang="es-PE" sz="1800" spc="-1" strike="noStrike">
                <a:solidFill>
                  <a:srgbClr val="000000"/>
                </a:solidFill>
                <a:latin typeface="Times New Roman"/>
              </a:rPr>
              <a:t>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65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65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134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Exportadores</a:t>
            </a:r>
            <a:br>
              <a:rPr sz="15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antidades 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1135080"/>
          <a:ext cx="9085320" cy="5398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35080"/>
                    <a:ext cx="9085320" cy="53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FOB Desmotadora</a:t>
            </a:r>
            <a:br>
              <a:rPr sz="26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S$ por QQ Fib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1225440"/>
          <a:ext cx="9144000" cy="524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25440"/>
                    <a:ext cx="914400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Importación de Algodón en Valores 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(Millones de US$ CIF)</a:t>
            </a:r>
            <a:br>
              <a:rPr sz="1900"/>
            </a:b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3200" y="1461960"/>
          <a:ext cx="8907480" cy="47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1461960"/>
                    <a:ext cx="890748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6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Volúmenes Importados de Algodón (Miles de TM) </a:t>
            </a:r>
            <a:br>
              <a:rPr sz="2100"/>
            </a:b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2000-2004*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50920" y="1492200"/>
          <a:ext cx="8672400" cy="471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92200"/>
                    <a:ext cx="8672400" cy="47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"/>
          <p:cNvSpPr/>
          <p:nvPr/>
        </p:nvSpPr>
        <p:spPr>
          <a:xfrm>
            <a:off x="735120" y="6324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35640" y="6173640"/>
            <a:ext cx="217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(*)Datos al mes de ag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uente: Adua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aboración: inform</a:t>
            </a:r>
            <a:r>
              <a:rPr b="1" lang="es-ES_tradnl" sz="1200" spc="-1" strike="noStrike">
                <a:solidFill>
                  <a:srgbClr val="ff0000"/>
                </a:solidFill>
                <a:latin typeface="Arial"/>
              </a:rPr>
              <a:t>@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mparación Perú vs. Brasi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o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ado Perú vs. Brasil</a:t>
            </a:r>
            <a:br>
              <a:rPr sz="34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atos en kilos y US$ por H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04840" y="1268280"/>
          <a:ext cx="8759880" cy="532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4840" y="1268280"/>
                    <a:ext cx="8759880" cy="53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arios Perú vs. Brasil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ducción en QQ Fibra, Valores en US$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7360" y="1212840"/>
          <a:ext cx="8893440" cy="545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212840"/>
                    <a:ext cx="88934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racterísticas del Negocio Algodonero en el Per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476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ado por pequeños agricul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cnología baj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stigación en recu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exibilizado uso de genética extranj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lidad de fibra bue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del mercado reconocen cal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16000" y="404640"/>
            <a:ext cx="7772400" cy="53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cios internos afectados por subsid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ltivo sensible sin corrección de distorsiones en el Per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ción nacional con tendencia negati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manda local en crecimiento por exportaciones de confec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aciones en crecimi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tencial para incrementar á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ueva experiencia en el negocio del algod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15640" y="2131560"/>
            <a:ext cx="701028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yecto basado en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 la Región Lambaye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Zona de Jayan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52200"/>
            <a:ext cx="8001000" cy="121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Índi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l algodón en el mun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product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consum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rincipales expor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Pre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erencia Bras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Experiencia algodonera Lambayequ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bjetivo/Premis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993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bra extra larga: Pima o equivalente como Híbr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ividad mínima 80 qq en rama por h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vegetativo 180 días campo limp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7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sibilidad de cultivo complement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142640" y="134136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lta tecnologí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iego 100% bombeo acep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Área ideal 500 has o má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c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55640" y="466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úsqueda de inversionis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a de tierra en subasta Proinvers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,200 has ex Plan Piloto Olm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zos perforados 20, 1,000 lt/seg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lnSpc>
                <a:spcPct val="15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ena pro Dic 2001, entrega Ene 200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lnSpc>
                <a:spcPct val="15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curso suministro de riego por gote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99640" y="549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stalación red eléctric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bos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150 has Feb 2003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embra 300 has Feb 200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14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mbaye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ima Hazera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1,4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l Cerro: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  800 h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195640" y="49870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0920" y="811080"/>
          <a:ext cx="8789760" cy="566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811080"/>
                    <a:ext cx="878976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972160" y="157320"/>
            <a:ext cx="33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133200" y="781200"/>
          <a:ext cx="8863200" cy="569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" y="781200"/>
                    <a:ext cx="8863200" cy="56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39640" y="18900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Arial"/>
              </a:rPr>
              <a:t>Resultados por Un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Calidad de Fib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81160" y="1062000"/>
          <a:ext cx="8699400" cy="53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1160" y="1062000"/>
                    <a:ext cx="869940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3000" y="189000"/>
            <a:ext cx="80010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lgodón: buena alternativa para agro nacional por mercado y áreas extensas. Costa y Selv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ducción nacional de fibra extra larga es fundamental para competitividad de cadena textil y confecciones; somos deficitarios, somos competitiv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1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endencia estratégica de producción hacia fibras extra largas. Tienen menos distorsiones y tenemos mejores ventajas competitivas, inclusive para export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7240" y="40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ercado reconoce calidad y se manifiesta en el pre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l algodón responde bien al uso de alta tecnología, inclusive a la relativa alta inversión de riego por gote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omover y facilitar acceso y uso de tecnología genética mas modern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4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odernizar la reglamentación del cultivo y de la producción e importación de semill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Reflex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5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000000"/>
                </a:solidFill>
                <a:latin typeface="Verdana"/>
              </a:rPr>
              <a:t>El desarrollo del agro necesita de todos los cultivos y productos que tengan mercado y seamos competitivos, …corrigiendo distorsiones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032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rcado Mundial</a:t>
            </a:r>
            <a:br>
              <a:rPr sz="34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8000" y="1386000"/>
          <a:ext cx="8856720" cy="498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386000"/>
                    <a:ext cx="885672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7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Después de años de distanciamiento entre subsectores del agro, se esta gestando la unión entre los agricultores y los eslabones siguientes de las caden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39280" y="83628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, finalmente, la unidad en el ag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e esta logrando que el agro unido recupere su espacio en todas las esferas: Gobierno, negociacion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539280" y="146664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Por qué no se ha desarrollado más el sector algodoner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el diagnóstic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1420200" y="549360"/>
            <a:ext cx="598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800" spc="-1" strike="noStrike">
                <a:solidFill>
                  <a:srgbClr val="000000"/>
                </a:solidFill>
                <a:latin typeface="Verdana"/>
              </a:rPr>
              <a:t>Preguntas Patricia Teullet - COM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s posible recuperar el cultivo de algodón en el Perú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Somos competitivos en la producción de algodón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 es nuestro rendimiento y cuál es nuestro costo de producción por hectáre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ómo se compara esto internacional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Si se decidiera promover el cultivo de algodón,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Cuáles son los mecanismos para hacerl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Qué tipo de cultivos se debe promov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¿Entre las medidas a adoptar, existe algún tipo de restricción a la importación (aranceles o sobretasas)? Si fuera así. ¿Cómo afecta esto las posibilidades de desarrollo de la industria textil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Se puede equilibrar el desarrollo del sector algodonero con el de la industria de textiles y confecciones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21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Verdana"/>
              </a:rPr>
              <a:t>¿Es cierto que el sector textil, para ser competitivo internacionalmente, necesita algodón muy barato y, por tanto, comprarlo subsidiado constituye una ventaja necesario para poder colocar sus productos en el exterior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250920" y="1268280"/>
          <a:ext cx="8731080" cy="507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268280"/>
                    <a:ext cx="8731080" cy="50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2010600" y="692280"/>
            <a:ext cx="514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ducción Mundial de Algod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117360" y="1619280"/>
          <a:ext cx="8923320" cy="4762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360" y="1619280"/>
                    <a:ext cx="892332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212200" y="368280"/>
            <a:ext cx="460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Participación del Perú e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PE" sz="2600" spc="-1" strike="noStrike">
                <a:solidFill>
                  <a:srgbClr val="000000"/>
                </a:solidFill>
                <a:latin typeface="Verdana"/>
              </a:rPr>
              <a:t>Fibras Largas y Extra Larg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hina</a:t>
            </a:r>
            <a:br>
              <a:rPr sz="3400"/>
            </a:b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0" y="914400"/>
          <a:ext cx="9158400" cy="576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14400"/>
                    <a:ext cx="9158400" cy="57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ados Unidos</a:t>
            </a:r>
            <a:br>
              <a:rPr sz="34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0" y="987480"/>
          <a:ext cx="9158400" cy="560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87480"/>
                    <a:ext cx="915840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3240" y="430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Productores</a:t>
            </a:r>
            <a:br>
              <a:rPr sz="30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031760"/>
          <a:ext cx="9040680" cy="554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31760"/>
                    <a:ext cx="9040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0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andes Consumidores</a:t>
            </a:r>
            <a:br>
              <a:rPr sz="30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 Millones de T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8680" y="841320"/>
          <a:ext cx="8952120" cy="584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80" y="841320"/>
                    <a:ext cx="8952120" cy="584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2:39:57Z</dcterms:created>
  <dc:creator>ACilloniz</dc:creator>
  <dc:description/>
  <dc:language>en-US</dc:language>
  <cp:lastModifiedBy>PCLARCE</cp:lastModifiedBy>
  <dcterms:modified xsi:type="dcterms:W3CDTF">2004-09-30T22:56:41Z</dcterms:modified>
  <cp:revision>115</cp:revision>
  <dc:subject/>
  <dc:title>Mercado Mundial</dc:title>
</cp:coreProperties>
</file>